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177-4CA5-4F8C-A946-CC212E42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02B-F3F2-41D2-BC49-5DF86B3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BEF-2337-451E-B08C-BF7BBD88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2BC-83DB-4404-9F17-43D4CA19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AB2-6CC6-428D-A6C0-60D30DF3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285C-E69D-4D6E-B04D-A3439E6C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F62-0A98-4A1A-B153-7217743B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9EC8-0DEF-470E-9708-977E37D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1B8-F747-4C82-87A8-2F55470A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4E0-EC8A-4224-9658-28B5AF6F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961-8EC0-46E7-A308-12444F7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F5F-166E-4BDE-8E94-9308BC2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7777-9063-41A5-9C66-D683D82F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4793-0044-4B18-B4E2-D4A9AAE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C8CD-C331-4403-8E3D-70C5B1B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143F-D468-41B9-A4F4-03E9F5B2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65F-6018-4601-9AED-BA7553A4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CF91-0200-4811-8F87-8CDFE0C7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6102-2489-44B4-A7EB-BE15E5C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983B-2A96-4437-86BE-78FB479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E12E-388B-4B32-BB5F-DA0D3F53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517E-655F-483D-B4B5-EA661C64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88C-F161-4EBF-A109-2269B62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A873-4C69-45B1-9F94-54D9B928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A949-4798-4EAF-A5B3-1C0FC086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A590-8FAD-42F8-B9E8-F1864FD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C2EE-06F9-496B-8ED5-C275AC1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0C9A-D761-468F-8A0B-3122A073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04CA-4030-41BA-909D-521E6BC3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90B3-7C2A-4A59-AE82-8AF725B4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E87A-86F8-4492-99EC-135AAED1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5771-15BC-4721-B8B7-4786BC0B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2333-36CD-44AB-A541-8B6E31F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A0D-43A0-4E42-BED1-B0E3DC8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1227-710E-4A62-ABBC-C83FA65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D633-0B2B-406C-8DB7-E961594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A7D1-A3C7-49F9-BB38-2C4E1DA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9275-2CF8-4645-AB8E-257E439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3632-10EE-4A69-BB3B-0505A1F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0BBC-44D4-4364-939B-F507335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A6ED-EE7C-470B-978E-70E0378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B7B7-F3B0-4371-B7C5-BF4D6FAC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FE31-41AD-4516-B7A9-BFB0305F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3FBC-1362-4703-918D-75EB2852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4EE-7BDC-4EEC-BA48-85FFEFF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8510-B8D6-46CF-AC3C-6952D57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7CC5-2BCD-44DF-B97A-2FD8618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36199-43F7-4D39-9E6D-DA28D83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F0047-E8E8-4614-8283-52E6DB76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E4D0-C4B9-4050-AC82-8BADBA9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8559-0BB2-49C6-8A0D-A12A55A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2829-DE7B-4237-A3C6-CDF0E60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5372-E623-4AFC-9356-BD8F8569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BCB1-ADFA-4D05-9CB1-7CC0425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38CA-245E-44FD-8E82-5F97BD94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276-046C-4E13-A7E0-3A6DCC5C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4C1C-1E75-4CFA-96DA-5329377B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C34-9A5F-4E01-9F7E-582C8A9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66E-5D6B-4860-8AE8-B1A1877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516-4B8C-449A-973E-BBFA5D4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8F906-B5C2-4F61-A23E-4247781241D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FBA76-4726-4738-90D3-60F601CE951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1D84C-DDD4-44A9-870E-39E67CFEB0DD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FB58D-CD2C-4353-AB6B-A2E850BA76C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20B65-97F4-45AD-B990-993B7661F94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ΕΝΕΙΑ ΣΤΟ ΔΙΑΔΙ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Μήτσιου Αναστασία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398160"/>
            <a:ext cx="758016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Tι μπορούμε να κάνουμε αν διαπιστώσουμε ότι κάποιος φίλος μας/συμμαθητής μας έχει πέσει θύμα διαδικτυακού εκφοβισμού</a:t>
            </a: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7280" y="2377800"/>
            <a:ext cx="772308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του εκφράσουμε την υποστήριξ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Μπορούμε να αναφέρουμε το περιστατικό σε κάποιον που μπορεί να βοηθήσει – έναν γονέα ή έναν δάσκαλο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ahoma"/>
              </a:rPr>
              <a:t>Εάν δούμε προσβλητικά σχόλια στο διαδίκτυο μπορούμε να κάνουμε αμέσως αναφορά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3" name="Εικόνα 3" descr=""/>
          <p:cNvPicPr/>
          <p:nvPr/>
        </p:nvPicPr>
        <p:blipFill>
          <a:blip r:embed="rId1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5" descr=""/>
          <p:cNvPicPr/>
          <p:nvPr/>
        </p:nvPicPr>
        <p:blipFill>
          <a:blip r:embed="rId3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73440" y="663480"/>
            <a:ext cx="7491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Ψηφιακός πολίτ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14360" y="2130120"/>
            <a:ext cx="7491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Το να είσαι καλός ψηφιακός πολίτης σημαίνει να χρησιμοποιείς την τεχνολογία υπεύθυνα με ασφάλεια, σεβασμό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Θα πρέπει να είμαστε ευγενικοί με τους άλλους στο διαδίκτυο, να σκεφτόμαστε πριν κοινοποιήσουμε και να προστατεύουμε τα προσωπικά μας στοιχεί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σεβασμός της ιδιωτικής ζωής και η τήρηση των κανόνων που θέτουν οι ενήλικες είναι επίσης σημαντικός. Είναι σημαντικό να υπάρχει ισορροπία μεταξύ του χρόνου οθόνης και άλλων Δραστηριοτήτων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ς γίνουμε καλοί ψηφιακοί πολίτες και ας κάνουμε τον ψηφιακό κόσμο καλύτερο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120" y="639720"/>
            <a:ext cx="7175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Λέξεις που χαρακτηρίζουν έναν καλό ψηφιακό πολίτη: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2095560" y="2292480"/>
            <a:ext cx="5046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ευγέν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σεβα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καλοσύν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ευθυν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σορροπ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υποστήριξ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5b74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335b74"/>
                </a:solidFill>
                <a:latin typeface="Franklin Gothic Book"/>
              </a:rPr>
              <a:t>ιδιω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6360" y="763560"/>
            <a:ext cx="89456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1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3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131840" y="2130480"/>
            <a:ext cx="67248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ξεχνάμε ποτέ ότι στην άλλη πλευρά της ηλεκτρονικής μας συνομιλίας βρίσκεται ένας άνθρωπο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ν ιδιωτικότητα των άλλω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ν κοινοποιούμε στο διαδίκτυο φωτογραφίες κάποιου αν δεν έχουμε την έγκρισή τ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5b74"/>
              </a:buClr>
              <a:buFont typeface="Franklin Gothic Book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βόμαστε τη γνώμη των άλλων, ακόμα κι αν δε συμφωνούμε με αυτή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ν δε συμφωνούμε με κάποιον, εκφράζουμε τη διαφωνία μας πολιτισμέν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6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722600" y="246384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4. Αποφεύγουμε τα ΚΕΦΑΛΑΙΑ γράμματα. Oι συνομιλητές μας νιώθουν πως τους υψώνουμε τη φων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5. Γράφουμε με σαφή,κατάλληλο και συνοπτικό τρόπο. Όταν επικοινωνούμε σε επίσημο ύφος, αποφεύγουμε τα greeklish, τις συντομεύσεις και τα emotic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6. Δεν κάνουμε εμφανείς αποκλεισμούς στο κοινό μας. Δε δημιουργούμε την αίσθηση στους υπόλοιπους ότι είναι αποκομμένο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50920" y="82404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66400" y="2003040"/>
            <a:ext cx="76820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Ελέγχουμε πάντα αν, όσα μοιραζόμαστε στο διαδίκτυο, είναι έγκυρα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Αναπτύσσουμε κριτική σκέψη και εμπιστευόμαστε το ένστικτο και τη λογική μα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κεφτόμαστε πριν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θέσουμε ή αποδεχτούμε κάποιον φίλο. Αν δεν θέλουμε να μείνουμε σε επαφή μαζί τους, δεν τους προσθέτουμε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ε δημοσιεύουμε υλικό που προστατεύεται από πνευματικά δικαιώματα στο οποίο δεν είμαστε κάτοχοι των δικαιωμάτων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29480" indent="-4294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Όταν στέλνουμε email σε πολλούς παραλήπτες που δεν γνωρίζονται μεταξύ τους δε δημοσιοποιούμε τις ηλεκτρονικές τους διευθύνσεις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66400" y="836640"/>
            <a:ext cx="876132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υγένεια και σεβασμός στο διαδίκτυο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01400" y="4762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01760" y="1720800"/>
            <a:ext cx="5695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Γνώ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οσβασιμότητα σε πληροφορί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Προστασ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από τον εκφοβισμό και τη βί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υμμετοχή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ε συζητήσεις και φόρουμ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Δικαιοσύν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αναζήτησης βοήθειας εάν αισθάνεσαι πως απειλείσαι με οποιονδήποτε τρόπ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Εκπαίδευση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στην εκπαίδευση - ενημέρωση για το τι διατίθεται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Υγεία: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δικαίωμα ναπαραμείνετε υγιείς σωματικά και ψυχικά ενώ αλληλεπιδράτε στο διαδίκτυ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8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0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520" y="596880"/>
            <a:ext cx="8575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Δικαιώματα και υποχρεώσεις στο διαδίκτυο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5880" y="1720800"/>
            <a:ext cx="61372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υς άλλου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ην παρεμποδίζετε τα βασικά δικαιώματα των άλλων ή με οποιονδήποτε τρόπο συμμετέχετε σε συμπεριφορά που είναι επιβλαβής για τους άλλους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Σεβασμός στον εαυτό σας: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ρέπει να γνωρίζετε το ψηφιακό αποτύπωμά σας και πώς αυτό επηρεάζει τον τρόπο με τον οποίο σας αντιλαμβάνονται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3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01400" y="58896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ι μπορούμε να κάνουμε αν κάτι μας ενοχλήσει/αναστατώσει στο διαδίκτυο;</a:t>
            </a:r>
            <a:br>
              <a:rPr sz="3600"/>
            </a:b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98080" y="1720800"/>
            <a:ext cx="757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71160" indent="-37116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διακόψουμε αμέσως την επικοινωνία και να αποκλείσουμε τα μηνύματα ή το προφίλ που μας ενόχλησε/αναστάτωσε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Να μιλήσουμε με κάποιον που εμπιστευόμαστε, τους γονείς μας, έναν δάσκαλο ή έναν άλλο ενήλικα.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Nα τραβήξουμε ένα στιγμιότυπο οθόνης και να κρατήσουμε τα στοιχεί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5b74"/>
                </a:solidFill>
                <a:latin typeface="Tahoma"/>
              </a:rPr>
              <a:t>Να κάνουμε αναφορά στον ιστότοπο/εφαρμογή/μέσω κοινωνικής δικτύωσης/διαδικτυακό παιχνίδι αν αντιμετωπίσουμε διαδικτυακό εκφοβισμό, αγενές ή ψευδές περιεχόμενο, παρενόχληση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marL="371160" indent="-371160">
              <a:lnSpc>
                <a:spcPct val="15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8" name="Εικόνα 3" descr=""/>
          <p:cNvPicPr/>
          <p:nvPr/>
        </p:nvPicPr>
        <p:blipFill>
          <a:blip r:embed="rId1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5" descr=""/>
          <p:cNvPicPr/>
          <p:nvPr/>
        </p:nvPicPr>
        <p:blipFill>
          <a:blip r:embed="rId3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16:44Z</dcterms:modified>
  <cp:revision>139</cp:revision>
  <dc:subject/>
  <dc:title>Παρουσίαση του PowerPoint</dc:title>
</cp:coreProperties>
</file>